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9.gif" ContentType="image/gif"/>
  <Override PartName="/ppt/media/image10.gif" ContentType="image/gif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7934-385F-444B-8151-E42403BA8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E557-EAEE-48D2-A95A-85CDDCED8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CE1C-05F2-48A4-90FB-DE7B5806B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9525-3270-4262-98A6-0A41522DE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01E5-4528-4CB8-B3B6-26535210A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A74D-1DA6-40A9-80D7-F617B4B28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F194-B1C4-457C-B4E9-BFCBF1FDA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17D1-3105-467C-872D-749FB6851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C1BE-DB40-45C8-B144-BEC6AD55F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993A-C550-42BE-B2E6-058FFC4C1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A2D8-E09B-403B-9C99-5118E953B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9EFD-211E-499B-9864-F2627430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B9A08-2505-4EDB-8725-9FA9996BE0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9.gif"/><Relationship Id="rId7" Type="http://schemas.openxmlformats.org/officeDocument/2006/relationships/image" Target="../media/image10.gif"/><Relationship Id="rId8" Type="http://schemas.openxmlformats.org/officeDocument/2006/relationships/image" Target="../media/image11.gif"/><Relationship Id="rId9" Type="http://schemas.openxmlformats.org/officeDocument/2006/relationships/image" Target="../media/image12.gif"/><Relationship Id="rId10" Type="http://schemas.openxmlformats.org/officeDocument/2006/relationships/image" Target="../media/image12.gif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4 класс </a:t>
            </a:r>
            <a:br>
              <a:rPr sz="3200"/>
            </a:b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Русский язы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9280" y="3885840"/>
            <a:ext cx="8856720" cy="28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Freeform 2"/>
          <p:cNvSpPr/>
          <p:nvPr/>
        </p:nvSpPr>
        <p:spPr>
          <a:xfrm>
            <a:off x="-52560" y="4869000"/>
            <a:ext cx="9196560" cy="2232000"/>
          </a:xfrm>
          <a:custGeom>
            <a:avLst/>
            <a:gdLst>
              <a:gd name="textAreaLeft" fmla="*/ 0 w 9196560"/>
              <a:gd name="textAreaRight" fmla="*/ 9196920 w 9196560"/>
              <a:gd name="textAreaTop" fmla="*/ 0 h 2232000"/>
              <a:gd name="textAreaBottom" fmla="*/ 2232360 h 2232000"/>
            </a:gdLst>
            <a:ahLst/>
            <a:rect l="textAreaLeft" t="textAreaTop" r="textAreaRight" b="textAreaBottom"/>
            <a:pathLst>
              <a:path w="5793" h="1296">
                <a:moveTo>
                  <a:pt x="0" y="1144"/>
                </a:moveTo>
                <a:cubicBezTo>
                  <a:pt x="5" y="1125"/>
                  <a:pt x="14" y="1107"/>
                  <a:pt x="16" y="1088"/>
                </a:cubicBezTo>
                <a:cubicBezTo>
                  <a:pt x="28" y="991"/>
                  <a:pt x="9" y="991"/>
                  <a:pt x="64" y="936"/>
                </a:cubicBezTo>
                <a:cubicBezTo>
                  <a:pt x="79" y="891"/>
                  <a:pt x="72" y="851"/>
                  <a:pt x="112" y="824"/>
                </a:cubicBezTo>
                <a:cubicBezTo>
                  <a:pt x="129" y="774"/>
                  <a:pt x="165" y="740"/>
                  <a:pt x="208" y="712"/>
                </a:cubicBezTo>
                <a:cubicBezTo>
                  <a:pt x="247" y="654"/>
                  <a:pt x="275" y="657"/>
                  <a:pt x="328" y="624"/>
                </a:cubicBezTo>
                <a:cubicBezTo>
                  <a:pt x="398" y="580"/>
                  <a:pt x="331" y="621"/>
                  <a:pt x="376" y="576"/>
                </a:cubicBezTo>
                <a:cubicBezTo>
                  <a:pt x="390" y="562"/>
                  <a:pt x="416" y="553"/>
                  <a:pt x="432" y="544"/>
                </a:cubicBezTo>
                <a:cubicBezTo>
                  <a:pt x="475" y="518"/>
                  <a:pt x="519" y="492"/>
                  <a:pt x="560" y="464"/>
                </a:cubicBezTo>
                <a:cubicBezTo>
                  <a:pt x="585" y="447"/>
                  <a:pt x="619" y="454"/>
                  <a:pt x="648" y="448"/>
                </a:cubicBezTo>
                <a:cubicBezTo>
                  <a:pt x="675" y="430"/>
                  <a:pt x="691" y="398"/>
                  <a:pt x="720" y="384"/>
                </a:cubicBezTo>
                <a:cubicBezTo>
                  <a:pt x="774" y="357"/>
                  <a:pt x="832" y="350"/>
                  <a:pt x="888" y="328"/>
                </a:cubicBezTo>
                <a:cubicBezTo>
                  <a:pt x="978" y="194"/>
                  <a:pt x="1157" y="184"/>
                  <a:pt x="1304" y="176"/>
                </a:cubicBezTo>
                <a:cubicBezTo>
                  <a:pt x="1336" y="165"/>
                  <a:pt x="1367" y="159"/>
                  <a:pt x="1400" y="152"/>
                </a:cubicBezTo>
                <a:cubicBezTo>
                  <a:pt x="1525" y="89"/>
                  <a:pt x="1608" y="81"/>
                  <a:pt x="1752" y="64"/>
                </a:cubicBezTo>
                <a:cubicBezTo>
                  <a:pt x="1795" y="59"/>
                  <a:pt x="1837" y="46"/>
                  <a:pt x="1880" y="40"/>
                </a:cubicBezTo>
                <a:cubicBezTo>
                  <a:pt x="2001" y="0"/>
                  <a:pt x="2207" y="41"/>
                  <a:pt x="2344" y="48"/>
                </a:cubicBezTo>
                <a:cubicBezTo>
                  <a:pt x="2373" y="58"/>
                  <a:pt x="2432" y="72"/>
                  <a:pt x="2432" y="72"/>
                </a:cubicBezTo>
                <a:cubicBezTo>
                  <a:pt x="2632" y="68"/>
                  <a:pt x="2807" y="61"/>
                  <a:pt x="3000" y="48"/>
                </a:cubicBezTo>
                <a:cubicBezTo>
                  <a:pt x="3073" y="24"/>
                  <a:pt x="3158" y="28"/>
                  <a:pt x="3232" y="24"/>
                </a:cubicBezTo>
                <a:cubicBezTo>
                  <a:pt x="3269" y="27"/>
                  <a:pt x="3308" y="23"/>
                  <a:pt x="3344" y="32"/>
                </a:cubicBezTo>
                <a:cubicBezTo>
                  <a:pt x="3355" y="35"/>
                  <a:pt x="3359" y="50"/>
                  <a:pt x="3368" y="56"/>
                </a:cubicBezTo>
                <a:cubicBezTo>
                  <a:pt x="3395" y="74"/>
                  <a:pt x="3456" y="101"/>
                  <a:pt x="3488" y="104"/>
                </a:cubicBezTo>
                <a:cubicBezTo>
                  <a:pt x="3568" y="111"/>
                  <a:pt x="3648" y="109"/>
                  <a:pt x="3728" y="112"/>
                </a:cubicBezTo>
                <a:cubicBezTo>
                  <a:pt x="3894" y="153"/>
                  <a:pt x="3907" y="146"/>
                  <a:pt x="4144" y="152"/>
                </a:cubicBezTo>
                <a:cubicBezTo>
                  <a:pt x="4197" y="178"/>
                  <a:pt x="4246" y="190"/>
                  <a:pt x="4304" y="200"/>
                </a:cubicBezTo>
                <a:cubicBezTo>
                  <a:pt x="4394" y="185"/>
                  <a:pt x="4380" y="184"/>
                  <a:pt x="4520" y="200"/>
                </a:cubicBezTo>
                <a:cubicBezTo>
                  <a:pt x="4534" y="202"/>
                  <a:pt x="4547" y="211"/>
                  <a:pt x="4560" y="216"/>
                </a:cubicBezTo>
                <a:cubicBezTo>
                  <a:pt x="4623" y="239"/>
                  <a:pt x="4686" y="259"/>
                  <a:pt x="4752" y="272"/>
                </a:cubicBezTo>
                <a:cubicBezTo>
                  <a:pt x="4804" y="324"/>
                  <a:pt x="4873" y="329"/>
                  <a:pt x="4944" y="336"/>
                </a:cubicBezTo>
                <a:cubicBezTo>
                  <a:pt x="4994" y="353"/>
                  <a:pt x="4943" y="329"/>
                  <a:pt x="4984" y="376"/>
                </a:cubicBezTo>
                <a:cubicBezTo>
                  <a:pt x="4995" y="389"/>
                  <a:pt x="5012" y="396"/>
                  <a:pt x="5024" y="408"/>
                </a:cubicBezTo>
                <a:cubicBezTo>
                  <a:pt x="5050" y="434"/>
                  <a:pt x="5069" y="469"/>
                  <a:pt x="5096" y="496"/>
                </a:cubicBezTo>
                <a:cubicBezTo>
                  <a:pt x="5107" y="528"/>
                  <a:pt x="5161" y="611"/>
                  <a:pt x="5192" y="632"/>
                </a:cubicBezTo>
                <a:cubicBezTo>
                  <a:pt x="5209" y="643"/>
                  <a:pt x="5230" y="646"/>
                  <a:pt x="5248" y="656"/>
                </a:cubicBezTo>
                <a:cubicBezTo>
                  <a:pt x="5267" y="667"/>
                  <a:pt x="5286" y="677"/>
                  <a:pt x="5304" y="688"/>
                </a:cubicBezTo>
                <a:cubicBezTo>
                  <a:pt x="5320" y="698"/>
                  <a:pt x="5352" y="720"/>
                  <a:pt x="5352" y="720"/>
                </a:cubicBezTo>
                <a:cubicBezTo>
                  <a:pt x="5398" y="790"/>
                  <a:pt x="5431" y="774"/>
                  <a:pt x="5504" y="792"/>
                </a:cubicBezTo>
                <a:cubicBezTo>
                  <a:pt x="5520" y="803"/>
                  <a:pt x="5536" y="813"/>
                  <a:pt x="5552" y="824"/>
                </a:cubicBezTo>
                <a:cubicBezTo>
                  <a:pt x="5660" y="896"/>
                  <a:pt x="5558" y="858"/>
                  <a:pt x="5624" y="880"/>
                </a:cubicBezTo>
                <a:cubicBezTo>
                  <a:pt x="5641" y="930"/>
                  <a:pt x="5659" y="986"/>
                  <a:pt x="5704" y="1016"/>
                </a:cubicBezTo>
                <a:cubicBezTo>
                  <a:pt x="5731" y="1098"/>
                  <a:pt x="5684" y="1083"/>
                  <a:pt x="5784" y="1096"/>
                </a:cubicBezTo>
                <a:cubicBezTo>
                  <a:pt x="5755" y="1296"/>
                  <a:pt x="5793" y="1164"/>
                  <a:pt x="5336" y="1168"/>
                </a:cubicBezTo>
                <a:cubicBezTo>
                  <a:pt x="4920" y="1172"/>
                  <a:pt x="4504" y="1156"/>
                  <a:pt x="4088" y="1152"/>
                </a:cubicBezTo>
                <a:cubicBezTo>
                  <a:pt x="3663" y="1119"/>
                  <a:pt x="3265" y="1140"/>
                  <a:pt x="2824" y="1144"/>
                </a:cubicBezTo>
                <a:cubicBezTo>
                  <a:pt x="1971" y="1141"/>
                  <a:pt x="1117" y="1141"/>
                  <a:pt x="264" y="1136"/>
                </a:cubicBezTo>
                <a:cubicBezTo>
                  <a:pt x="201" y="1136"/>
                  <a:pt x="0" y="1109"/>
                  <a:pt x="0" y="1096"/>
                </a:cubicBezTo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ddd0fc32575ct"/>
          <p:cNvPicPr/>
          <p:nvPr/>
        </p:nvPicPr>
        <p:blipFill>
          <a:blip r:embed="rId1"/>
          <a:stretch/>
        </p:blipFill>
        <p:spPr>
          <a:xfrm>
            <a:off x="2771640" y="1916280"/>
            <a:ext cx="3218040" cy="453708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4"/>
          <p:cNvSpPr/>
          <p:nvPr/>
        </p:nvSpPr>
        <p:spPr>
          <a:xfrm rot="16884600">
            <a:off x="172440" y="5091120"/>
            <a:ext cx="134748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00003b"/>
              </a:gs>
              <a:gs pos="100000">
                <a:srgbClr val="000080"/>
              </a:gs>
            </a:gsLst>
            <a:lin ang="1011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5"/>
          <p:cNvSpPr/>
          <p:nvPr/>
        </p:nvSpPr>
        <p:spPr>
          <a:xfrm>
            <a:off x="7236000" y="189000"/>
            <a:ext cx="1511280" cy="151128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6"/>
          <p:cNvSpPr/>
          <p:nvPr/>
        </p:nvSpPr>
        <p:spPr>
          <a:xfrm rot="16884600">
            <a:off x="172080" y="300420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181847"/>
              </a:gs>
              <a:gs pos="100000">
                <a:srgbClr val="333399"/>
              </a:gs>
            </a:gsLst>
            <a:lin ang="1011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7"/>
          <p:cNvSpPr/>
          <p:nvPr/>
        </p:nvSpPr>
        <p:spPr>
          <a:xfrm rot="16884600">
            <a:off x="172080" y="69912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c0504d"/>
              </a:gs>
              <a:gs pos="100000">
                <a:srgbClr val="4618f0"/>
              </a:gs>
            </a:gsLst>
            <a:lin ang="1011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8"/>
          <p:cNvSpPr/>
          <p:nvPr/>
        </p:nvSpPr>
        <p:spPr>
          <a:xfrm rot="551400">
            <a:off x="1763280" y="25992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c0504d"/>
              </a:gs>
              <a:gs pos="100000">
                <a:srgbClr val="4ee8f8"/>
              </a:gs>
            </a:gsLst>
            <a:lin ang="4848000"/>
          </a:gra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9"/>
          <p:cNvSpPr/>
          <p:nvPr/>
        </p:nvSpPr>
        <p:spPr>
          <a:xfrm rot="551400">
            <a:off x="3995280" y="25992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6e74ee"/>
              </a:gs>
              <a:gs pos="100000">
                <a:srgbClr val="4ee8f8"/>
              </a:gs>
            </a:gsLst>
            <a:lin ang="4848000"/>
          </a:gra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0"/>
          <p:cNvSpPr/>
          <p:nvPr/>
        </p:nvSpPr>
        <p:spPr>
          <a:xfrm rot="551400">
            <a:off x="6227280" y="25992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6e74ee"/>
              </a:gs>
              <a:gs pos="100000">
                <a:srgbClr val="4f81bd"/>
              </a:gs>
            </a:gsLst>
            <a:lin ang="4848000"/>
          </a:gra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1"/>
          <p:cNvSpPr/>
          <p:nvPr/>
        </p:nvSpPr>
        <p:spPr>
          <a:xfrm rot="6169800">
            <a:off x="7733160" y="772560"/>
            <a:ext cx="1347840" cy="90144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3366ff"/>
              </a:gs>
              <a:gs pos="50000">
                <a:srgbClr val="4f81bd"/>
              </a:gs>
              <a:gs pos="100000">
                <a:srgbClr val="3366ff"/>
              </a:gs>
            </a:gsLst>
            <a:lin ang="20832000"/>
          </a:gra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2"/>
          <p:cNvSpPr/>
          <p:nvPr/>
        </p:nvSpPr>
        <p:spPr>
          <a:xfrm rot="6169800">
            <a:off x="7733160" y="3075840"/>
            <a:ext cx="1347840" cy="90144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ffffff"/>
              </a:gs>
              <a:gs pos="100000">
                <a:srgbClr val="4618f0"/>
              </a:gs>
            </a:gsLst>
            <a:lin ang="18132000"/>
          </a:gra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3"/>
          <p:cNvSpPr/>
          <p:nvPr/>
        </p:nvSpPr>
        <p:spPr>
          <a:xfrm rot="6169800">
            <a:off x="7733160" y="5307840"/>
            <a:ext cx="1347840" cy="90144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lin ang="18132000"/>
          </a:gra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4"/>
          <p:cNvSpPr/>
          <p:nvPr/>
        </p:nvSpPr>
        <p:spPr>
          <a:xfrm rot="11193600">
            <a:off x="6156360" y="587664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lin ang="7704000"/>
          </a:gra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5"/>
          <p:cNvSpPr/>
          <p:nvPr/>
        </p:nvSpPr>
        <p:spPr>
          <a:xfrm rot="11193600">
            <a:off x="4067280" y="587664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ffffff"/>
              </a:gs>
              <a:gs pos="100000">
                <a:srgbClr val="33e6f9"/>
              </a:gs>
            </a:gsLst>
            <a:lin ang="7704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6" descr="arg-blue-left-tr"/>
          <p:cNvPicPr/>
          <p:nvPr/>
        </p:nvPicPr>
        <p:blipFill>
          <a:blip r:embed="rId2"/>
          <a:stretch/>
        </p:blipFill>
        <p:spPr>
          <a:xfrm>
            <a:off x="5940360" y="1341360"/>
            <a:ext cx="1190520" cy="1511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7" descr="ani-bird_red"/>
          <p:cNvPicPr/>
          <p:nvPr/>
        </p:nvPicPr>
        <p:blipFill>
          <a:blip r:embed="rId3"/>
          <a:stretch/>
        </p:blipFill>
        <p:spPr>
          <a:xfrm>
            <a:off x="2627280" y="2708280"/>
            <a:ext cx="1440000" cy="1152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8" descr="b13"/>
          <p:cNvPicPr/>
          <p:nvPr/>
        </p:nvPicPr>
        <p:blipFill>
          <a:blip r:embed="rId4"/>
          <a:stretch/>
        </p:blipFill>
        <p:spPr>
          <a:xfrm>
            <a:off x="2714760" y="5013360"/>
            <a:ext cx="1153800" cy="1235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9" descr="b13"/>
          <p:cNvPicPr/>
          <p:nvPr/>
        </p:nvPicPr>
        <p:blipFill>
          <a:blip r:embed="rId5"/>
          <a:stretch/>
        </p:blipFill>
        <p:spPr>
          <a:xfrm>
            <a:off x="7164360" y="5516640"/>
            <a:ext cx="1020960" cy="109224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20"/>
          <p:cNvSpPr/>
          <p:nvPr/>
        </p:nvSpPr>
        <p:spPr>
          <a:xfrm>
            <a:off x="5435640" y="2637000"/>
            <a:ext cx="3384360" cy="1223640"/>
          </a:xfrm>
          <a:prstGeom prst="wedgeRoundRectCallout">
            <a:avLst>
              <a:gd name="adj1" fmla="val -72328"/>
              <a:gd name="adj2" fmla="val -10958"/>
              <a:gd name="adj3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1"/>
          <p:cNvSpPr/>
          <p:nvPr/>
        </p:nvSpPr>
        <p:spPr>
          <a:xfrm>
            <a:off x="5580000" y="2781360"/>
            <a:ext cx="32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Ребята, берегите зрени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2" descr="B_Fly31"/>
          <p:cNvPicPr/>
          <p:nvPr/>
        </p:nvPicPr>
        <p:blipFill>
          <a:blip r:embed="rId6"/>
          <a:stretch/>
        </p:blipFill>
        <p:spPr>
          <a:xfrm rot="7628400">
            <a:off x="1287000" y="2536560"/>
            <a:ext cx="1143000" cy="1054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3" descr="B_Fly21"/>
          <p:cNvPicPr/>
          <p:nvPr/>
        </p:nvPicPr>
        <p:blipFill>
          <a:blip r:embed="rId7"/>
          <a:stretch/>
        </p:blipFill>
        <p:spPr>
          <a:xfrm rot="13640400">
            <a:off x="7137720" y="3599280"/>
            <a:ext cx="1368360" cy="1027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4" descr="B_Fly14"/>
          <p:cNvPicPr/>
          <p:nvPr/>
        </p:nvPicPr>
        <p:blipFill>
          <a:blip r:embed="rId8"/>
          <a:stretch/>
        </p:blipFill>
        <p:spPr>
          <a:xfrm>
            <a:off x="3059280" y="2565360"/>
            <a:ext cx="1441440" cy="1419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5" descr="b11"/>
          <p:cNvPicPr/>
          <p:nvPr/>
        </p:nvPicPr>
        <p:blipFill>
          <a:blip r:embed="rId9"/>
          <a:stretch/>
        </p:blipFill>
        <p:spPr>
          <a:xfrm>
            <a:off x="1187280" y="5516640"/>
            <a:ext cx="995400" cy="100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6" descr="b11"/>
          <p:cNvPicPr/>
          <p:nvPr/>
        </p:nvPicPr>
        <p:blipFill>
          <a:blip r:embed="rId10"/>
          <a:stretch/>
        </p:blipFill>
        <p:spPr>
          <a:xfrm>
            <a:off x="5292720" y="5157720"/>
            <a:ext cx="995400" cy="100800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27"/>
          <p:cNvSpPr/>
          <p:nvPr/>
        </p:nvSpPr>
        <p:spPr>
          <a:xfrm rot="11193600">
            <a:off x="1692360" y="587664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ffffff"/>
              </a:gs>
              <a:gs pos="100000">
                <a:srgbClr val="33e6f9"/>
              </a:gs>
            </a:gsLst>
            <a:lin ang="15804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1232028.wav" descr=""/>
          <p:cNvPicPr/>
          <p:nvPr/>
        </p:nvPicPr>
        <p:blipFill>
          <a:blip r:embed="rId1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6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7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04" nodeType="afterEffect" fill="hold" presetClass="entr" presetID="35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211" nodeType="afterEffect" fill="hold" presetClass="path" presetID="37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8 0.06806 L -0.18107 0.21528 C -0.21649 0.24861 -0.26927 0.26759 -0.32447 0.26759 C -0.38767 0.26759 -0.43784 0.24861 -0.47326 0.21528 L -0.64184 0.06806 E">
                                      <p:cBhvr>
                                        <p:cTn id="212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214" nodeType="afterEffect" fill="hold" presetClass="path" presetID="44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5747 0.06806 L -0.48473 0.00533 C -0.44827 -0.00856 -0.3941 -0.01597 -0.3375 -0.01597 C -0.27292 -0.01597 -0.22153 -0.00856 -0.18507 0.00533 L -0.01181 0.06806 E">
                                      <p:cBhvr>
                                        <p:cTn id="215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2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222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22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23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236" nodeType="after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7" dur="2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2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241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2" dur="2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2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37000"/>
                            </p:stCondLst>
                            <p:childTnLst>
                              <p:par>
                                <p:cTn id="2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3900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41000"/>
                            </p:stCondLst>
                            <p:childTnLst>
                              <p:par>
                                <p:cTn id="2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26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45000"/>
                            </p:stCondLst>
                            <p:childTnLst>
                              <p:par>
                                <p:cTn id="27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47000"/>
                            </p:stCondLst>
                            <p:childTnLst>
                              <p:par>
                                <p:cTn id="281" nodeType="afterEffect" fill="hold" presetClass="path" presetID="1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11 -0.11458 C 0.05781 -0.10833 0.10955 -0.02917 0.10504 0.06273 C 0.10052 0.15463 0.04097 0.22361 -0.02795 0.21759 C -0.09705 0.21157 -0.14861 0.13171 -0.1441 0.04028 C -0.13941 -0.05185 -0.07986 -0.12083 -0.01111 -0.11458 Z">
                                      <p:cBhvr>
                                        <p:cTn id="282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51000"/>
                            </p:stCondLst>
                            <p:childTnLst>
                              <p:par>
                                <p:cTn id="28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53000"/>
                            </p:stCondLst>
                            <p:childTnLst>
                              <p:par>
                                <p:cTn id="289" nodeType="afterEffect" fill="hold" presetClass="path" presetID="7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82 0.05741 L 0.0382 -0.2581 L -0.18715 -0.2581 L -0.18715 0.05741 L 0.0382 0.05741 Z">
                                      <p:cBhvr>
                                        <p:cTn id="290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57000"/>
                            </p:stCondLst>
                            <p:childTnLst>
                              <p:par>
                                <p:cTn id="2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Он еще не родился, а уже думали: </a:t>
            </a:r>
            <a:r>
              <a:rPr b="1" lang="ru-RU" sz="3200" spc="-1" strike="noStrike">
                <a:solidFill>
                  <a:srgbClr val="336600"/>
                </a:solidFill>
                <a:latin typeface="Calibri"/>
              </a:rPr>
              <a:t>Кто </a:t>
            </a: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он</a:t>
            </a:r>
            <a:r>
              <a:rPr b="1" lang="ru-RU" sz="3200" spc="-1" strike="noStrike">
                <a:solidFill>
                  <a:srgbClr val="336600"/>
                </a:solidFill>
                <a:latin typeface="Calibri"/>
              </a:rPr>
              <a:t>? Что </a:t>
            </a: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он</a:t>
            </a:r>
            <a:r>
              <a:rPr b="1" lang="ru-RU" sz="3200" spc="-1" strike="noStrike">
                <a:solidFill>
                  <a:srgbClr val="336600"/>
                </a:solidFill>
                <a:latin typeface="Calibri"/>
              </a:rPr>
              <a:t>?</a:t>
            </a: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 Какое ему дать имя? Решили назвать – </a:t>
            </a:r>
            <a:r>
              <a:rPr b="1" lang="ru-RU" sz="3200" spc="-1" strike="noStrike">
                <a:solidFill>
                  <a:srgbClr val="cc0000"/>
                </a:solidFill>
                <a:latin typeface="Calibri"/>
              </a:rPr>
              <a:t>Именительны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6"/>
          <p:cNvSpPr/>
          <p:nvPr/>
        </p:nvSpPr>
        <p:spPr>
          <a:xfrm>
            <a:off x="179280" y="1722600"/>
            <a:ext cx="8964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тицы  – нашы/и   друзь/ъя.   О/Ани  о/ахр. няют  п .ля  л .са (от)  вр.дителе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/аж .лейте   п .рнатых   друзей!   П .м .гите   птицам   з .мой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1023840" y="282600"/>
            <a:ext cx="772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00275"/>
                </a:solidFill>
                <a:latin typeface="Arial"/>
              </a:rPr>
              <a:t>Решить орфографические зада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3635640" y="1989000"/>
            <a:ext cx="1750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сло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сло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сло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сло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о сло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5508720" y="1996920"/>
            <a:ext cx="172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е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 к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7093080" y="1989000"/>
            <a:ext cx="1553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 чё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Рисунок1в"/>
          <p:cNvPicPr/>
          <p:nvPr/>
        </p:nvPicPr>
        <p:blipFill>
          <a:blip r:embed="rId1"/>
          <a:srcRect l="0" t="0" r="0" b="13781"/>
          <a:stretch/>
        </p:blipFill>
        <p:spPr>
          <a:xfrm>
            <a:off x="6877080" y="5084640"/>
            <a:ext cx="2266920" cy="163044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6"/>
          <p:cNvSpPr/>
          <p:nvPr/>
        </p:nvSpPr>
        <p:spPr>
          <a:xfrm>
            <a:off x="323640" y="1989000"/>
            <a:ext cx="3272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менитель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дитель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атель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инитель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воритель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лож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WordArt 7"/>
          <p:cNvSpPr txBox="1"/>
          <p:nvPr/>
        </p:nvSpPr>
        <p:spPr>
          <a:xfrm>
            <a:off x="539640" y="333360"/>
            <a:ext cx="8064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адежи русского языка</a:t>
            </a:r>
            <a:endParaRPr b="1" lang="en-US" sz="32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Разминка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роведи аналогию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c1626"/>
                </a:solidFill>
                <a:latin typeface="Arial"/>
              </a:rPr>
              <a:t>Чёрное – белое = огонь – 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Arial"/>
              </a:rPr>
              <a:t>Война – смерть = …     - жизн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Рысь – кошка = волк - 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Arial"/>
              </a:rPr>
              <a:t>Дети – игра = взрослые - 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Прямоугольник 3"/>
          <p:cNvSpPr/>
          <p:nvPr/>
        </p:nvSpPr>
        <p:spPr>
          <a:xfrm>
            <a:off x="428760" y="6000840"/>
            <a:ext cx="807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Найди лишнюю пару с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8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8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Разминка.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Выбери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два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главных подходящих слова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8000" y="907920"/>
            <a:ext cx="8928000" cy="42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Arial"/>
              </a:rPr>
              <a:t>ЛЕС</a:t>
            </a: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(лист, яблоня, охотник, дерево, кустарник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Arial"/>
              </a:rPr>
              <a:t>ВОЙНА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(аэроплан, пушки, сражения, солдаты, ружьё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Arial"/>
              </a:rPr>
              <a:t>РЕКА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(берег, рыба, тина, рыболов, вода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alibri"/>
              </a:rPr>
              <a:t>Что объединяет данные  слов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4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alibri"/>
              </a:rPr>
              <a:t>На какие  группы можно их разделить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48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7" dur="8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8" dur="8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9" dur="8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8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1" dur="8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2" dur="8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3" dur="8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8" dur="8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0" dur="8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5" dur="8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6" dur="8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7" dur="8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28676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Вставь пропущенные буквы. Спиши, подчеркни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лишнее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слов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0" y="785520"/>
            <a:ext cx="91440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1в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Х…зяйство, д…р…га, к…мбайн, ко….ектив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Calibri"/>
              </a:rPr>
              <a:t>Под…езд, с…ёмка, в…юга, об…явлени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Calibri"/>
              </a:rPr>
              <a:t>2в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Д…карь, д…ждинка, ж…стянка, кр…винка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Calibri"/>
              </a:rPr>
              <a:t>Па..ажир, Ро…ия, п…года, су..о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Что объединяет все слов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8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1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e2437"/>
                </a:solidFill>
                <a:latin typeface="Calibri"/>
              </a:rPr>
              <a:t>Языковая разминк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Птицы  – нашы/и   друзь/ъя.   О/Ани  о/ахр. няют  п .ля, л.са (от)  вр.дителей.По/аж .лейте   п .рнатых   друзей!   П .м .гите   птицам   з .мой!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Имя существительно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Calibri"/>
              </a:rPr>
              <a:t>Что такое имя существительно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На какие вопросы отвечают имена существительны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Calibri"/>
              </a:rPr>
              <a:t>Как изменяются имена существительны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0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2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5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285840" y="785880"/>
            <a:ext cx="91440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Calibri"/>
              </a:rPr>
              <a:t>Друг это человек, который всё поймёт и поможет. Друга не забудешь через года. Другу доверишь любую тайну. Я уважаю своего друга. Я горжусь другом. Многие мечтают о настоящем друг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Прочитайте текст. О чём он? Найдите 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родственные существительны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457200" y="571320"/>
            <a:ext cx="240048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Друг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Друг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Друг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Друг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Друго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О друг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2928960" y="500040"/>
            <a:ext cx="21430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Arial"/>
              </a:rPr>
              <a:t>(кто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Arial"/>
              </a:rPr>
              <a:t>(кого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Arial"/>
              </a:rPr>
              <a:t>(кому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Arial"/>
              </a:rPr>
              <a:t>(кого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Arial"/>
              </a:rPr>
              <a:t>(кем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Arial"/>
              </a:rPr>
              <a:t>(О ком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357120" y="5143680"/>
            <a:ext cx="842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С помощью вопросов определите падеж имён существитель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5500800" y="500040"/>
            <a:ext cx="24289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И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Р. 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Д. 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В. 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Т. 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П. 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0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3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4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5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4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9" dur="8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0" dur="8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8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440"/>
                            </p:stCondLst>
                            <p:childTnLst>
                              <p:par>
                                <p:cTn id="4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5" dur="8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6" dur="8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8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680"/>
                            </p:stCondLst>
                            <p:childTnLst>
                              <p:par>
                                <p:cTn id="4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1" dur="8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2" dur="8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" dur="8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920"/>
                            </p:stCondLst>
                            <p:childTnLst>
                              <p:par>
                                <p:cTn id="4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7" dur="8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8" dur="8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9" dur="8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4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3" dur="8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5" dur="8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0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1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2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7" dur="8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8" dur="8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9" dur="8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4" dur="8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5" dur="8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6" dur="8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1" dur="8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2" dur="8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3" dur="8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8" dur="8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9" dur="8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0" dur="8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5" dur="8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6" dur="8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7" dur="8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320"/>
                            </p:stCondLst>
                            <p:childTnLst>
                              <p:par>
                                <p:cTn id="53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785520"/>
            <a:ext cx="822960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33cc"/>
                </a:solidFill>
                <a:latin typeface="Calibri"/>
              </a:rPr>
              <a:t>Склонение имён существительных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3"/>
          <p:cNvSpPr/>
          <p:nvPr/>
        </p:nvSpPr>
        <p:spPr>
          <a:xfrm>
            <a:off x="214200" y="4000680"/>
            <a:ext cx="8929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Что называется склонение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Arial"/>
              </a:rPr>
              <a:t>Сколько падежей в русском языке? Назовите 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На какие вопросы отвечают падежи имён существительны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0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77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7" dur="77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9" dur="77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1" dur="77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7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8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9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4" dur="8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5" dur="8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6" dur="8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1" dur="8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2" dur="8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3" dur="8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142920" y="0"/>
          <a:ext cx="8858160" cy="6961320"/>
        </p:xfrm>
        <a:graphic>
          <a:graphicData uri="http://schemas.openxmlformats.org/drawingml/2006/table">
            <a:tbl>
              <a:tblPr/>
              <a:tblGrid>
                <a:gridCol w="1714320"/>
                <a:gridCol w="1649520"/>
                <a:gridCol w="1738440"/>
                <a:gridCol w="3755880"/>
              </a:tblGrid>
              <a:tr h="1353240"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падеж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ва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мощни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дежные вопрос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лог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.  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о? что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.  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го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го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, возле, до, из, для, около, от, подле, с, у, вокруг, кром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2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.  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ойти 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у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му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, п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2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 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ж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го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о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, за, про, через, в, на, 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2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.  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воле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ем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м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, между, над, под, с, со, пере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2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 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ум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вори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 ком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 чем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, о, об, на, п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                          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ЧАСТЬ В.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Найдите и подчеркните в тексте          все имена существительные. Определи паде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Праздник леса.</a:t>
            </a: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Школа объявила праздник леса.Ребята собрались у подъезда школы. Каждый принёс лопату и ведро. Подъехала машина. Она привезла саженцы. Теперь они будут защищать дорогу от снег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9" dur="8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0" dur="8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1" dur="8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6" dur="8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7" dur="8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8" dur="8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роверь себ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428400"/>
            <a:ext cx="914400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1.(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что?)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Школа –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И.п.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(что?)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Праздник –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В.п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(чего?)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Леса –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Р.п.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(когда? во что?)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В субботу –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В.п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(кто?)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Ребята –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И.п.        (у чего?)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У подъезда – </a:t>
            </a:r>
            <a:r>
              <a:rPr b="1" i="1" lang="ru-RU" sz="2400" spc="-1" strike="noStrike">
                <a:solidFill>
                  <a:srgbClr val="ee2437"/>
                </a:solidFill>
                <a:latin typeface="Arial"/>
              </a:rPr>
              <a:t>Р.п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(чего?)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Школы –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Р.п.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3.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(что?)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Лопату –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В.п.     (что?)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Ведро –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В.п.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4. 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(что?)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Машина –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И.п.     (что?)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Саженцы –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В.п.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5.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(кто?)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Ребята –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И.п.       (что?)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Ёлочки –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В.п.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(по чему?)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По сторонам –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Д.п.      (чего?)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Дороги –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Р.п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6.(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что?)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Дорогу –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В.п.       (от чего?)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От снега –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Р.п.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4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5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6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1" dur="8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2" dur="8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3" dur="8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8" dur="8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9" dur="8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0" dur="8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5" dur="8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6" dur="8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7" dur="8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2" dur="8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3" dur="8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4" dur="8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9" dur="8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0" dur="8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1" dur="8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6" dur="8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7" dur="8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8" dur="8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3" dur="8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4" dur="8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5" dur="8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0" dur="80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1" dur="80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2" dur="80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7" dur="80"/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8" dur="80"/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9" dur="80"/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4" dur="80"/>
                                        <p:tgtEl>
                                          <p:spTgt spid="1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5" dur="80"/>
                                        <p:tgtEl>
                                          <p:spTgt spid="1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6" dur="80"/>
                                        <p:tgtEl>
                                          <p:spTgt spid="1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                             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ЧАСТЬ С.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пиши словосочетания, определи </a:t>
            </a: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падеж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и </a:t>
            </a: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род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уществительны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79280" y="2133720"/>
            <a:ext cx="8856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ыглядывает из-за куста(      ), скачет по дорожке(       ), поют песню(      ), открыл рот(      ), не боится волка(      ), провожают друга(         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0" dur="8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1" dur="8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2" dur="8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5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6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7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Calibri"/>
              </a:rPr>
              <a:t>Упр.1, стр.1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Calibri"/>
              </a:rPr>
              <a:t>Выучить таблицу «Падежи» на стр.9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08000" y="620280"/>
            <a:ext cx="90360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c1626"/>
                </a:solidFill>
                <a:latin typeface="Arial"/>
              </a:rPr>
              <a:t>МОЛОДЦЫ!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c1626"/>
                </a:solidFill>
                <a:latin typeface="Arial"/>
              </a:rPr>
              <a:t>СПАСИБО ЗА УРОК!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c1626"/>
                </a:solidFill>
                <a:latin typeface="Arial"/>
              </a:rPr>
              <a:t>Ляйсан Ильхамо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0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77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5" dur="77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7" dur="77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9" dur="77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77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5" dur="77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7" dur="77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9" dur="77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4000"/>
                            </p:stCondLst>
                            <p:childTnLst>
                              <p:par>
                                <p:cTn id="79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77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5" dur="77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7" dur="77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9" dur="77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Алгорит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до найти слово, от которого данное существительное зависи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тавить вопрос от этого слова к тому, падеж которого мы определя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ная вопрос и вспомогательные слова, определить паде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4"/>
          <p:cNvSpPr txBox="1"/>
          <p:nvPr/>
        </p:nvSpPr>
        <p:spPr>
          <a:xfrm>
            <a:off x="250920" y="0"/>
            <a:ext cx="8569080" cy="22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Times New Roman"/>
              </a:rPr>
              <a:t>Как узнать падеж имени существительного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Times New Roman"/>
              <a:ea typeface="Times New Roman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250920" y="2492280"/>
            <a:ext cx="779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.</a:t>
            </a: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   Найти  главное слово (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X</a:t>
            </a: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826920" y="2637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250920" y="3716280"/>
            <a:ext cx="8569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.  От главного слова поставить падежный  вопрос к зависимому</a:t>
            </a: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285840" y="5143680"/>
            <a:ext cx="8013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По вопросу определить падеж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WordArt 4"/>
          <p:cNvSpPr txBox="1"/>
          <p:nvPr/>
        </p:nvSpPr>
        <p:spPr>
          <a:xfrm rot="5400000">
            <a:off x="-2650680" y="3054960"/>
            <a:ext cx="6453360" cy="1152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ПОМНИ!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1476360" y="765000"/>
            <a:ext cx="1531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99"/>
                </a:solidFill>
                <a:latin typeface="Arial"/>
              </a:rPr>
              <a:t>Им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99"/>
                </a:solidFill>
                <a:latin typeface="Arial"/>
              </a:rPr>
              <a:t>Р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99"/>
                </a:solidFill>
                <a:latin typeface="Arial"/>
              </a:rPr>
              <a:t>Д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99"/>
                </a:solidFill>
                <a:latin typeface="Arial"/>
              </a:rPr>
              <a:t>В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99"/>
                </a:solidFill>
                <a:latin typeface="Arial"/>
              </a:rPr>
              <a:t>Т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99"/>
                </a:solidFill>
                <a:latin typeface="Arial"/>
              </a:rPr>
              <a:t>П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3203640" y="907920"/>
            <a:ext cx="513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кто? чт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2987640" y="1773360"/>
            <a:ext cx="506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кого? чег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2771640" y="2781360"/>
            <a:ext cx="434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кому? чем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2843280" y="3645000"/>
            <a:ext cx="390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кого? чт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2700360" y="4581360"/>
            <a:ext cx="455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кем? чем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2700360" y="5516640"/>
            <a:ext cx="527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о ком? о чём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4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2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AutoShape 2"/>
          <p:cNvSpPr/>
          <p:nvPr/>
        </p:nvSpPr>
        <p:spPr>
          <a:xfrm>
            <a:off x="1476360" y="476280"/>
            <a:ext cx="6192720" cy="5761080"/>
          </a:xfrm>
          <a:prstGeom prst="sun">
            <a:avLst>
              <a:gd name="adj" fmla="val 2466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3"/>
          <p:cNvSpPr/>
          <p:nvPr/>
        </p:nvSpPr>
        <p:spPr>
          <a:xfrm>
            <a:off x="3635280" y="2781360"/>
            <a:ext cx="360360" cy="2887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4"/>
          <p:cNvSpPr/>
          <p:nvPr/>
        </p:nvSpPr>
        <p:spPr>
          <a:xfrm>
            <a:off x="5003640" y="2781360"/>
            <a:ext cx="360360" cy="288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5"/>
          <p:cNvSpPr/>
          <p:nvPr/>
        </p:nvSpPr>
        <p:spPr>
          <a:xfrm>
            <a:off x="4572000" y="321300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6"/>
          <p:cNvSpPr/>
          <p:nvPr/>
        </p:nvSpPr>
        <p:spPr>
          <a:xfrm rot="16200000">
            <a:off x="4355280" y="3716640"/>
            <a:ext cx="360360" cy="1079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994" y="1146"/>
                  <a:pt x="6387" y="5080"/>
                  <a:pt x="6387" y="10800"/>
                </a:cubicBezTo>
                <a:cubicBezTo>
                  <a:pt x="6387" y="16520"/>
                  <a:pt x="13994" y="204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Детские Песни - Дорогою Добра.mp3" descr=""/>
          <p:cNvPicPr/>
          <p:nvPr/>
        </p:nvPicPr>
        <p:blipFill>
          <a:blip r:embed="rId1"/>
          <a:stretch/>
        </p:blipFill>
        <p:spPr>
          <a:xfrm>
            <a:off x="795672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9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109575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5T05:50:49Z</dcterms:created>
  <dc:creator>333</dc:creator>
  <dc:description>З.В. Александрова  http://aida.ucoz.ru</dc:description>
  <dc:language>en-US</dc:language>
  <cp:lastModifiedBy>английский нач-кл</cp:lastModifiedBy>
  <dcterms:modified xsi:type="dcterms:W3CDTF">2012-11-12T16:54:00Z</dcterms:modified>
  <cp:revision>39</cp:revision>
  <dc:subject/>
  <dc:title>3 класс  Русский язык</dc:title>
</cp:coreProperties>
</file>